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874-3530-4F51-BE99-BD32A4B5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5E6-C7F7-4665-B002-776F5695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886-265D-4EC1-8976-B7DCD6E3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FF5-2DB0-40AB-BD94-ED6960E4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EA0A-26E6-4FA1-91C2-9477BEB3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6208-7C15-4CF0-99AA-C27775BA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B329-050D-4C65-9CBB-F5417D6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091-91F3-47EE-B22E-225AAE7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429-159F-4DE8-8949-F3BCBE3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EB1-3E6A-46A3-B82F-22B34BD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9E0-FE40-4B24-B171-09AEAA5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091-36C6-4980-8A4F-57CA96F8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6E9D-D50D-41CA-A1FC-C81B2DD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5CEB-07C2-43EC-B6AF-6AD9AA06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1960-41C0-4DA5-9370-974789A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9A1-5AD6-4E03-A10E-AF20727C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B31E-3C2A-442D-9E3A-FF7FBB88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E29-2D5F-458D-8D9F-BFE2641C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64C-957A-4366-9440-B9FA2372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AED-94B4-4563-86F3-30661D2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B53B-469E-459A-A234-9C035D4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886-A6DA-46BC-9CD5-A0B3FFD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9D0-BE03-428B-9403-3232CF6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1C3-5D92-42B4-A2D8-0D102BC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49A9-512F-40E2-B7C6-62CFEE2A2AE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042-1D9F-4DAA-8BEB-E38CA2400EE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84120" y="1365120"/>
            <a:ext cx="8497800" cy="1841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really car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Daniel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one really should ever give any attention to this figure of history because this guy suck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 mom, last night. 20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20:16:02Z</dcterms:created>
  <dc:creator>Profile</dc:creator>
  <dc:description/>
  <dc:language>en-US</dc:language>
  <cp:lastModifiedBy>Profile</cp:lastModifiedBy>
  <dcterms:modified xsi:type="dcterms:W3CDTF">2010-01-07T20:20:49Z</dcterms:modified>
  <cp:revision>3</cp:revision>
  <dc:subject/>
  <dc:title>Alexander the great </dc:title>
</cp:coreProperties>
</file>